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248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24800" cy="9867960"/>
          </a:xfrm>
          <a:custGeom>
            <a:avLst/>
            <a:gdLst>
              <a:gd name="textAreaLeft" fmla="*/ 360 w 6724800"/>
              <a:gd name="textAreaRight" fmla="*/ 6724440 w 67248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95">
                <a:moveTo>
                  <a:pt x="5" y="0"/>
                </a:moveTo>
                <a:arcTo wR="5" hR="5" stAng="16200000" swAng="-5400000"/>
                <a:lnTo>
                  <a:pt x="0" y="31690"/>
                </a:lnTo>
                <a:arcTo wR="5" hR="5" stAng="10800000" swAng="-5400000"/>
                <a:lnTo>
                  <a:pt x="21595" y="3169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7113600"/>
            <a:ext cx="360" cy="157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76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01680" y="749160"/>
            <a:ext cx="25210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01680" y="749160"/>
            <a:ext cx="25210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01680" y="749160"/>
            <a:ext cx="25210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01680" y="749160"/>
            <a:ext cx="25210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326-294F-46C9-B88C-A164AD14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29920"/>
            <a:ext cx="841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6A1-76CB-4952-AC7A-7DE20B2D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2992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2992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3CD-5BA5-40C1-8F1B-EE441C22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2992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2992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2992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C23-2F46-42EE-8686-48E80CE8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E0C-C446-434A-9F90-CCD4EAE9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C34-5918-4064-8FC4-B2C80BD0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998-3CD1-4D73-9FC2-8EDB43D5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93B-909F-4C81-9F73-4B5F74AE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FCF-C79B-49C2-B517-8556925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2992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AA7-DF51-4E33-B7E0-6A743AA7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2992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5C7-F1E5-4CFB-A5C4-B538F4AA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29920"/>
            <a:ext cx="841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415-8540-4C4D-AB8F-FF47A9A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10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160"/>
            <a:ext cx="2060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720" y="6248160"/>
            <a:ext cx="31334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9200" y="6248160"/>
            <a:ext cx="2060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FA3CB-F949-44B2-8D58-FF7E83450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taggarts@tcd.ie" TargetMode="External"/><Relationship Id="rId2" Type="http://schemas.openxmlformats.org/officeDocument/2006/relationships/hyperlink" Target="mailto:mcglync@tcd.ie" TargetMode="External"/><Relationship Id="rId3" Type="http://schemas.openxmlformats.org/officeDocument/2006/relationships/hyperlink" Target="mailto:flynnse@tcd.ie" TargetMode="External"/><Relationship Id="rId4" Type="http://schemas.openxmlformats.org/officeDocument/2006/relationships/hyperlink" Target="mailto:trestonb@tcd.ie" TargetMode="External"/><Relationship Id="rId5" Type="http://schemas.openxmlformats.org/officeDocument/2006/relationships/hyperlink" Target="mailto:roches3@tcd.ie" TargetMode="External"/><Relationship Id="rId6" Type="http://schemas.openxmlformats.org/officeDocument/2006/relationships/hyperlink" Target="mailto:kirwanma@tcd.i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5475" t="0" r="15475" b="0"/>
          <a:stretch/>
        </p:blipFill>
        <p:spPr>
          <a:xfrm>
            <a:off x="5334120" y="1219320"/>
            <a:ext cx="3809880" cy="291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08520" y="50846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007/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953240" cy="1263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0880" y="5715000"/>
            <a:ext cx="4191120" cy="73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89600" y="4292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tcd.ie/Clubs/DUH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82680" y="260280"/>
            <a:ext cx="21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ee you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raining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352520" y="1916280"/>
            <a:ext cx="194940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97000"/>
            <a:ext cx="4419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Month                                           Event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7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Maynooth Road Relays. 1st Intervarsity event of the  season, held in the scenic surroundings of Maynooth College, it’s a delight to the sen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ecember 7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/8th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oor Track&amp;Field Intervarsity in Nenagh. Experience the thrills of running/jumping/throwing in a giant cow shed in Co Tip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ebruary   TBC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ours X Country. Santry. UCD? Huh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ebruary TBC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Country Intervarsity – in Limerick this year. Men’s team will give it their best to improve on last year’s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lacing, while the ladies will try to get amongst the medals once again with some new talent on the both team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November 4</a:t>
            </a:r>
            <a:r>
              <a:rPr b="1" lang="en-US" sz="1400" spc="-1" strike="noStrike" baseline="33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BC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urs Road Relays. A new event only started last year. To be held out in UCD.A nice warm up before Maynoo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152280"/>
            <a:ext cx="46767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mbxsl10"/>
                <a:ea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following events are being organised by the committee for your participation for the 2006/2007 seas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97600" y="765000"/>
            <a:ext cx="4572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24160" y="1916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9240" y="5877000"/>
            <a:ext cx="251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01360" y="620640"/>
            <a:ext cx="4539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pr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TBC Colours T&amp;F about two weeks before the IV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Ringsend/Belfield. UCD? Huh agai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pril 18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/19</a:t>
            </a:r>
            <a:r>
              <a:rPr b="1" i="1" lang="en-US" sz="1400" spc="-1" strike="noStrike" baseline="33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door T&amp;F Intervarsity. This year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 held provisionally in Santry. To be hosted by UCD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ar. Great chance to get good teams out on ‘home soil’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medals and points for the club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Trinity Relays, College Park – the first event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ar to be held on our historical grass track. This is wh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 invite Dublin clubs to run against us. You know th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ummer’s begun when there are punters in the Pa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ing laps with half-full pi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inity Wednesda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Chariots of Fire in Front Square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lege Races, College Park. On the only ‘official half day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college calendar, we tempt people away from the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oks with strawberries and cream and lots of prizes. It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genuine break from the library with inter-faculty relay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-legged, wheelbarrow and other novelty races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s are no excuse to miss i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0880" y="5373720"/>
            <a:ext cx="459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lease note that the dates of the events are subject to chan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bscribe to the mailing list (see page 7) in order to 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p-to-date information on compet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76520" y="26028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6280" y="260280"/>
            <a:ext cx="90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Timetable as of Monday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ctober 200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e entries may be subject to change during the sea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800" y="189000"/>
            <a:ext cx="907416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981000"/>
            <a:ext cx="454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onday 6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Intervals on College Park. Meet in Lu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ts : College Park/Irishtown Sta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1720" y="1484280"/>
            <a:ext cx="4604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 coach Mick Farrell if you’re training for middle/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ance or just want a good cardio+endurance se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ssions will vary in emphasis between distanc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ed. Sprinters do a session with our spr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ach Dan Kavanagh. Sprint sessions will be on College P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wo weeks then move on to the track once every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s to know each ot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3800" y="3213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uesday 6pm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000" y="3500280"/>
            <a:ext cx="4569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arrier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 or 6 mile run. Meet at reception in Sports Cen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6: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run around Georgian Dublin 2 and even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Sandymount! A basic element of any fitness programm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much more enjoyable in a group – so join us for a ch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thletics: 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ters do a session with Dan at Clonta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3720" y="5229360"/>
            <a:ext cx="377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ednesday 7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Circuit training, Ancillary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0480" y="5661000"/>
            <a:ext cx="442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hour is to make you toned and strong! A very pop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ernative to the sports centre’s own circuits, as it’s f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our members and it will benefit athletes from any spo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91840" y="907920"/>
            <a:ext cx="454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ursday 6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Long run for the Harriers (3or 6 mi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ters do a session with Dan at Clonta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8520" y="162864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riday 1pm –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re/Medicine Ba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ession in Ancilla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Hall or rest d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27720" y="213372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42680" y="2637000"/>
            <a:ext cx="8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atur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6560" y="2997360"/>
            <a:ext cx="411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ll session with Mick in the Phoenix Park. Meet t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the Magazine fort car park or in Front Ar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essential session for all training for XCoun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7480" y="3789360"/>
            <a:ext cx="27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unda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Free. Good for a rest d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44640" y="5445000"/>
            <a:ext cx="418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LSO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make sure to check training times with capta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s there might be changes/additions to the program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on’t forget to subscribe to the mailing list to rece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raining schedule upd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688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45240" y="1916280"/>
            <a:ext cx="352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73600" y="1916280"/>
            <a:ext cx="3527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45240" y="213372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great way to supplement the circuits on Wedne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7880" y="4437000"/>
            <a:ext cx="38473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printers may wish to spend time in the gy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oing weights sessions. Just send us an email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e’ll sort you out with program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76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ittee for this year is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00880" y="2709720"/>
            <a:ext cx="2352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5920" y="5661000"/>
            <a:ext cx="46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el free to contact committee members on queries regar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ining times, events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28520" y="1413000"/>
          <a:ext cx="4681440" cy="3795480"/>
        </p:xfrm>
        <a:graphic>
          <a:graphicData uri="http://schemas.openxmlformats.org/drawingml/2006/table">
            <a:tbl>
              <a:tblPr/>
              <a:tblGrid>
                <a:gridCol w="1279440"/>
                <a:gridCol w="1246320"/>
                <a:gridCol w="1096920"/>
                <a:gridCol w="1058760"/>
              </a:tblGrid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tee Po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eph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’s Athletics Cap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on Tagg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taggarts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6669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’s Athletics Cap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ire McGly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mcglync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60759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’s Harriers Cap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n Fly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flynnse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61546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’s Harriers Cap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yony Tre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trestonb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6658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ead Roc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roches3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2235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asur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Kirw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kirwanma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99039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R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imhe H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leycm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633639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tee Mem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il Cu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lenne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2120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en Dw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yero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61947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th Ca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sonr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68209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556880" y="260280"/>
            <a:ext cx="5548320" cy="61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tention! Important Not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order to get the most from you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DUHAC it is essential that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bscribe to our mai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 soon as you register in college and get yo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ail address and student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 will help us to ensure You have the m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p-to-date information on competition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ams, free stuff, social event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ust follow these simple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ther just give us your email address at the stan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shers week, or in case you don't know it yet, you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scribe yourself by doing the follow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Go 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uhac.tcdlife.i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click ‘Email List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Click ‘fill out this form’ link under ‘Subscribe’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Fill out the form and click ‘Submit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After that you will get an email asking you to confirm y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scrip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Follow the instructions in this email (the easiest op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ing clicking on the link provi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Note: when the system asks you whether you want ‘Digest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‘Plain’ emails, choose ‘Plain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 USER</cp:lastModifiedBy>
  <dcterms:modified xsi:type="dcterms:W3CDTF">2007-09-26T12:44:43Z</dcterms:modified>
  <cp:revision>7</cp:revision>
  <dc:subject/>
  <dc:title>Slide 1</dc:title>
</cp:coreProperties>
</file>