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C8B-DCED-4194-976E-C4CE1814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FA8-BD00-4E60-B6CE-90E4DF48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9108-FCB5-43FF-BCD8-E1D0E966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7CC-3CE1-4ABC-A6B2-14D56A8D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C00-8D8D-48F3-B964-EA2214DE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F59-74D5-4F8F-A0D1-AAE3D0A8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402-7584-4681-8E0A-9035C02F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E03-22CE-49C4-B7B0-650F3B01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F2F-4EE8-43C4-82B6-970E6E3D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EE0-BB9D-48B1-81DE-9F2DC397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9F0-B2A0-4A68-BFCD-B5AA9337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3F3-F1A2-4952-81EE-04707CC4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A006-9906-40EB-92DE-715AE9CA8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2nd Oct at the céilí in the Buttery. Meet in the Front Square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6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Sports Centre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social nigh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 the year Thurs. 5th Oct at the céilí in the Buttery. Meet in the Buttery Bar from 8pm. Come along and get to know your new club mates and have a bit of cra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Rac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e you Friday morning between 12-2 on College Park for a few end of freshers week novelty races. Sack race, three-legged race, wheelbarrow race, sprints etc.  Come along a join in the fun and maybe win a few prizes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First Training Session</a:t>
            </a:r>
            <a:r>
              <a:rPr b="1" i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ining begins Monday 9</a:t>
            </a:r>
            <a:r>
              <a:rPr b="0" lang="en-IE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@6pm. We meet in Luce hall just inside the main door on the ground floor. Not just for the elite!! Everyone wel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y questions just contact us at http://www.tcd.ie/Clubs/DUHAC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17:14:57Z</dcterms:created>
  <dc:creator>TCD User</dc:creator>
  <dc:description/>
  <dc:language>en-US</dc:language>
  <cp:lastModifiedBy>StefanD</cp:lastModifiedBy>
  <dcterms:modified xsi:type="dcterms:W3CDTF">2008-09-14T11:13:21Z</dcterms:modified>
  <cp:revision>5</cp:revision>
  <dc:subject/>
  <dc:title>Slide 1</dc:title>
</cp:coreProperties>
</file>