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70D-FE2D-4681-8E10-E7F863E0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E98-BEE5-4E1F-9FF8-B2693910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6B8-FCF9-460E-B890-0DFAF782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2B1-1396-478C-B8D7-51198003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8F6-5F04-4DDB-8C36-17A29816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84B-EF5B-446D-A2F6-824CAF7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4AC-0FDF-42D1-B7C4-F2423AD0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8E1-4BAC-4471-8020-B0285741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EEA-E586-437C-88DB-92284940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57A-94D0-406E-A1BE-1CC731E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F26-AD8D-4170-8415-080B4BC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574-505B-4BA0-8A34-639D285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282D-37EA-48F2-8197-0A0711F91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2nd Oct at the céilí in the Buttery. Meet in the Front Square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6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Sports Centre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7:14:57Z</dcterms:created>
  <dc:creator>TCD User</dc:creator>
  <dc:description/>
  <dc:language>en-US</dc:language>
  <cp:lastModifiedBy>StefanD</cp:lastModifiedBy>
  <dcterms:modified xsi:type="dcterms:W3CDTF">2008-09-14T11:13:21Z</dcterms:modified>
  <cp:revision>5</cp:revision>
  <dc:subject/>
  <dc:title>Slide 1</dc:title>
</cp:coreProperties>
</file>