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57400" y="685800"/>
            <a:ext cx="27432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DDF-84E2-4622-9089-BF170F49EF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057400" y="685800"/>
            <a:ext cx="2743200" cy="36576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and white po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FA5-4CEE-4B32-9124-22853F13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20F-06ED-41A3-AA6A-71DE7F85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0AA-029D-44BE-8C49-119AAC5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DB2-25E1-464F-9F27-21E76B0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CC8-F042-44B8-8956-B77502CE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5E9-027B-4E34-A8A1-FD66A8A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0D4-1EBE-44AF-894D-D0E39BD3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ACA-EF9F-4258-BBF5-511277D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CA1-DC7D-4720-AE5E-B4A63804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415-DF2E-486C-88B0-06C5618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1DE-383F-4418-B040-91A6CF1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5C8-91A1-4F2E-A6CC-9B1935F2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940-A716-4F2F-9595-25C1E68ED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  <a:lum bright="84000"/>
          </a:blip>
          <a:srcRect l="11024" t="4199" r="11024" b="4199"/>
          <a:stretch/>
        </p:blipFill>
        <p:spPr>
          <a:xfrm>
            <a:off x="228600" y="228600"/>
            <a:ext cx="640080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2689200"/>
            <a:ext cx="5184720" cy="676368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Thursday 24</a:t>
            </a:r>
            <a:r>
              <a:rPr b="1" i="1" lang="en-GB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April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0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15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100 (B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3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100 (G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45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400 (B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.0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400 (G)          &amp; Juven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.15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200 (Mix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0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200 (Mix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1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800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25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x 800 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4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100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5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100 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.0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pen 8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.1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x 1500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.30 p.m.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400 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.45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x 400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8.0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pen M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8.20 p.m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tries to mcglync@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6280" y="1115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One Stroke Script LET"/>
              </a:rPr>
              <a:t>The Trinity Relay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828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52880" y="4133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UBLIN UNIVERSITY HARRIERS AND ATHLETIC 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800" y="2971800"/>
            <a:ext cx="850680" cy="4699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ass Track (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ricket Pitch - 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mit Gra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00" y="228600"/>
            <a:ext cx="6558120" cy="8686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191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581280"/>
            <a:ext cx="287280" cy="129564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1:57:30Z</dcterms:created>
  <dc:creator>DUHAC - Stephen Lipson</dc:creator>
  <dc:description/>
  <dc:language>en-US</dc:language>
  <cp:lastModifiedBy>USER</cp:lastModifiedBy>
  <cp:lastPrinted>2007-03-13T14:00:36Z</cp:lastPrinted>
  <dcterms:modified xsi:type="dcterms:W3CDTF">2008-08-13T23:52:16Z</dcterms:modified>
  <cp:revision>35</cp:revision>
  <dc:subject>Flyer</dc:subject>
  <dc:title>The Trinity Relays</dc:title>
</cp:coreProperties>
</file>